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961B-605A-4338-ADE3-EE20900E5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3BEEC-800C-4C0B-9FA1-5510388E2B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BD456-EFDA-430F-8C12-A209DBDF75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FCE9D-1FFB-4DD9-BBA8-BF34AAE3EF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6BFA-FBCF-4CAC-B93F-06E9E0136E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9DE62-811B-4B20-B886-3C7C1A5AE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AB53A-54B2-49F2-8A2E-63B66A511D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D8C1-E0F9-4AFC-A9F4-44FC489552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46641-FB70-4C76-9C86-C46A063393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AC424-E9DB-4355-A746-A0CC84A8D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5F2F1-A15F-4BFE-810E-0C775AB0B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0672-7E47-4EBD-AD0D-263C2E10B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8391-31E6-40EA-AC98-176E8895A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ADD00-6C21-4CE8-AEBC-99B1B96B7A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EE950-ECA3-4BE8-A1D3-15B7694FDF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B4B33-5B65-44BC-B1BF-9DF9B19266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EA60B-8949-4F46-9B13-59507431B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710E8-87B4-47B5-AE54-74953DC36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CAD7F-55F5-4CBC-8EEA-369C80F104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7D681-5D9C-48A6-A6BA-3A59FC42E3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623F1-7476-47D3-89CA-D9CAB0F177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18242-8F6B-4014-8E3C-D50F5951D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960A-B917-4589-94D5-B162AC993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EF5DE-7300-4C3C-8AC9-8C952705C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B0BF2-9435-4C29-B38B-875206FF3C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A8484-7FBD-4A85-BAA8-CD7C3AA2B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D242A-4FA9-4C26-A643-73D3858D81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93EB-7DDD-4793-8553-BC4C87048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B5BAC-5634-465C-ACF5-C8D454E0AA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FD4B0-D0DC-4F6B-A481-CB10914D63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FD16-05E3-44B1-B6D8-B712B1D8C6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DDA92-B6B5-48D9-A9A2-7FC0B6894A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99CEB-CB3C-40DC-A816-E026A6468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677BA-D4B2-436C-B4BB-6D16DA5DA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93008-C8EE-4CA5-9992-45903D6BE9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64804-71EF-4F52-9018-D6FC3E5E32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50C26-8F5A-4BC8-864D-611F0B872F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4700-C313-4B32-8DB9-DACAC98ADB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768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514C-2FA5-44B6-9E57-B35358025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DC57-5228-4209-8050-8360D64C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69AB-9DBA-42B4-A29D-EAE6FC959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278E3-7051-4133-8CCB-2904CC903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C15D6-E90D-45E2-B606-1943DFCFB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525A6-537B-400C-9719-BF4D70DEA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D94E8-66FF-4C06-A0D6-8B5C74726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C7EAD-881F-4239-9903-3C34C540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89078-398F-42CC-9890-5B8D486A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77531-16A4-4D10-B2E7-E527485A7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F0107-7F27-4E6D-8DA4-9A76B30C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9750C-0B79-4F68-9557-9FBD2821D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7D3A3-8989-450A-AE28-A5AC741B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4D125-BF45-4C7D-B2B9-33871BC2A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A7909-36CF-4236-81CC-E43DC778F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60E35-3759-4029-BAAF-41C7399D6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E414-FF3F-4ED9-ADFB-57893AC04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1EA1-2440-4506-AF95-E05FD7586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A7FA-12C1-4DC6-8EC4-558FC1946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9D84-F3A1-4732-A50F-17F6D0F1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89785-E65E-447F-84B5-F9DB0F64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2BC9-2444-41BE-9B15-E9EBD16D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32BB-8809-458F-BE7C-CEE603AEF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C458-DE94-4E12-BA7D-0C5729C2D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863A-A9A4-4432-B489-D9544B297EC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3282-AA9F-4E33-A132-E5ED679014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Kristen ITC"/>
              </a:rPr>
              <a:t>Fall Math Center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9" name="Picture 6" descr="j0250103"/>
          <p:cNvPicPr/>
          <p:nvPr/>
        </p:nvPicPr>
        <p:blipFill>
          <a:blip r:embed="rId1"/>
          <a:stretch/>
        </p:blipFill>
        <p:spPr>
          <a:xfrm>
            <a:off x="2438280" y="3276720"/>
            <a:ext cx="4191120" cy="33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utty Sorting Materi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erials to sort—leaves, candy, nu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n r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Comic Sans MS"/>
              </a:rPr>
              <a:t>Prize Pumpkin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dict which pumpkin has the greatest m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ce the pumpkins in order, from the pumpkin with the greatest mass to the pumpkin with the least m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igh the pumpkins to determine how close your predictions w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ord the mass of each pumpki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j0240581"/>
          <p:cNvPicPr/>
          <p:nvPr/>
        </p:nvPicPr>
        <p:blipFill>
          <a:blip r:embed="rId1"/>
          <a:stretch/>
        </p:blipFill>
        <p:spPr>
          <a:xfrm>
            <a:off x="6934320" y="5122800"/>
            <a:ext cx="1766880" cy="17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ize Pumpkins Materials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lance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ighing obj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mpkins of various s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Comic Sans MS"/>
              </a:rPr>
              <a:t>Basket Capacitie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redict which basket has the          greatest capacity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Place the containers in order, from the container that will hold the least amount of liquid to the container that will hold the mos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Find the capacity of each container to determine how close your predictions we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Record the capacity of each containe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5" descr="j0279346"/>
          <p:cNvPicPr/>
          <p:nvPr/>
        </p:nvPicPr>
        <p:blipFill>
          <a:blip r:embed="rId1"/>
          <a:stretch/>
        </p:blipFill>
        <p:spPr>
          <a:xfrm>
            <a:off x="6324480" y="838080"/>
            <a:ext cx="2210040" cy="16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Basket Capacities Materials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ers of various siz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cks, rice, or beans for measu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Jokerman"/>
              </a:rPr>
              <a:t>Measuring Pumpkins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305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stimate the height, width, and circumference of the pumpkin.  Cut a piece of string to match each of your estim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asure the height, width, and circumference of the pumpkin.  Compare the lengths of your string with the actual measurements of the pumpk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close were your estimat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5" descr="j0215161"/>
          <p:cNvPicPr/>
          <p:nvPr/>
        </p:nvPicPr>
        <p:blipFill>
          <a:blip r:embed="rId1"/>
          <a:stretch/>
        </p:blipFill>
        <p:spPr>
          <a:xfrm>
            <a:off x="6553080" y="4753080"/>
            <a:ext cx="2057400" cy="19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easuring Pumpkins Materi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mpk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ss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asuring tools: rulers, measuring ta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omic Sans MS"/>
              </a:rPr>
              <a:t>Fall Fraction Activities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e the fall items to create fractions.  Record your fractions.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:  ½ of the nuts are pec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nd the fractional part of each bag of fall item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 the Fraction Concentration Game with a partn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ild fractions with the pie pieces.  What equivalent fractions can you fi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j0237680"/>
          <p:cNvPicPr/>
          <p:nvPr/>
        </p:nvPicPr>
        <p:blipFill>
          <a:blip r:embed="rId1"/>
          <a:stretch/>
        </p:blipFill>
        <p:spPr>
          <a:xfrm>
            <a:off x="7238880" y="4267080"/>
            <a:ext cx="1694160" cy="23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all Fraction Activities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 items such as leaves, gourd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gs of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entration G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ctional Pie Pie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hanksgiving Feas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e your own Thanksgiving Fea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rowse grocery store advertisements.  Choose foods that you would like to have at your own Thanksgiving dinner.  Don’t forget dessert!  Calculate the total amount of your dinner and recor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an you create a Thanksgiving feast with $100?  How about $50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4" descr="j0287403"/>
          <p:cNvPicPr/>
          <p:nvPr/>
        </p:nvPicPr>
        <p:blipFill>
          <a:blip r:embed="rId1"/>
          <a:stretch/>
        </p:blipFill>
        <p:spPr>
          <a:xfrm>
            <a:off x="6095880" y="4800600"/>
            <a:ext cx="23623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ffff"/>
                </a:solidFill>
                <a:latin typeface="Comic Sans MS"/>
              </a:rPr>
              <a:t>Pumpkin Nim</a:t>
            </a:r>
            <a:r>
              <a:rPr b="0" lang="en-US" sz="4200" spc="-1" strike="noStrike">
                <a:solidFill>
                  <a:srgbClr val="ffffff"/>
                </a:solidFill>
                <a:latin typeface="Kristen ITC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ire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ers take turns placing one pattern block piece at a time until the pumpkin is cover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erson who fills in the last hexagon wi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 again and change the rules so that the loser is the one who covers the last hexag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j0335889"/>
          <p:cNvPicPr/>
          <p:nvPr/>
        </p:nvPicPr>
        <p:blipFill>
          <a:blip r:embed="rId1"/>
          <a:stretch/>
        </p:blipFill>
        <p:spPr>
          <a:xfrm>
            <a:off x="5867280" y="380880"/>
            <a:ext cx="2057400" cy="17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hanksgiving Feast Materi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od advertis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Massive Feas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edict the mass of each food item.  Which food has the greatest mas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ce the food items in order, from the food with the greatest mass to the food with the least ma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eigh the items to determine how close your predictions were and peek on the outside of the labe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ord the mass of each foo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4" descr="j0199687"/>
          <p:cNvPicPr/>
          <p:nvPr/>
        </p:nvPicPr>
        <p:blipFill>
          <a:blip r:embed="rId1"/>
          <a:stretch/>
        </p:blipFill>
        <p:spPr>
          <a:xfrm>
            <a:off x="6858000" y="5257800"/>
            <a:ext cx="205740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Massive Feast Materials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giving food items with the mass covered on the lab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Seasonal Symmetry Activiti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51"/>
              </a:spcBef>
              <a:buClr>
                <a:srgbClr val="996666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Sort the fall pictures into groups.             1 – Has line symmetry                               2 – Not symmetrical  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Draw or use the pattern blocks to create two designs -- one to fit each category.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j0280635"/>
          <p:cNvPicPr/>
          <p:nvPr/>
        </p:nvPicPr>
        <p:blipFill>
          <a:blip r:embed="rId1"/>
          <a:stretch/>
        </p:blipFill>
        <p:spPr>
          <a:xfrm>
            <a:off x="3733920" y="4927680"/>
            <a:ext cx="2133360" cy="1704960"/>
          </a:xfrm>
          <a:prstGeom prst="rect">
            <a:avLst/>
          </a:prstGeom>
          <a:ln w="0">
            <a:noFill/>
          </a:ln>
        </p:spPr>
      </p:pic>
      <p:sp>
        <p:nvSpPr>
          <p:cNvPr id="159" name="Line 5"/>
          <p:cNvSpPr/>
          <p:nvPr/>
        </p:nvSpPr>
        <p:spPr>
          <a:xfrm>
            <a:off x="4800600" y="4876920"/>
            <a:ext cx="0" cy="1981080"/>
          </a:xfrm>
          <a:prstGeom prst="line">
            <a:avLst/>
          </a:prstGeom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easonal Symmetry Activities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 cut-outs and pi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te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 materials—crayons, marker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Fabulous Fall Art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e a scarecrow using only polygons.  Record the name of     each polygon used in your desig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e a fall picture using pattern blocks.  Trace and color the design on construction paper.  Find the total fractional amount of your design (Hexagon = 1) and record at the bottom of your pictur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j0285614"/>
          <p:cNvPicPr/>
          <p:nvPr/>
        </p:nvPicPr>
        <p:blipFill>
          <a:blip r:embed="rId1"/>
          <a:stretch/>
        </p:blipFill>
        <p:spPr>
          <a:xfrm>
            <a:off x="6858000" y="228600"/>
            <a:ext cx="198432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abulous Fall Art Materials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ometric shapes precut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truction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ue or glue sti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kers, crayons, or colored penc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Leafy Grid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ach player should select 5 fall pictures and place them on their coordinate gr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ers take turns calling-out ordered pairs.  If a player names the correct location of a fall item, it is remov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inner is the first player to locate all 5 of their partner’s objec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4" descr="j0250169"/>
          <p:cNvPicPr/>
          <p:nvPr/>
        </p:nvPicPr>
        <p:blipFill>
          <a:blip r:embed="rId1"/>
          <a:stretch/>
        </p:blipFill>
        <p:spPr>
          <a:xfrm>
            <a:off x="6553080" y="5254560"/>
            <a:ext cx="259092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Leafy Grids Materi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grids—paper, cookie sheets, box lids, poster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 items—attached with magnets, velcro, tape, or drawn on gr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Turkey Tim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e a graph to displa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weights of the turkeys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e three questions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bout your data dis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4" descr="j0335895"/>
          <p:cNvPicPr/>
          <p:nvPr/>
        </p:nvPicPr>
        <p:blipFill>
          <a:blip r:embed="rId1"/>
          <a:stretch/>
        </p:blipFill>
        <p:spPr>
          <a:xfrm>
            <a:off x="152280" y="1523880"/>
            <a:ext cx="2895840" cy="26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Comic Sans MS"/>
              </a:rPr>
              <a:t>Apple Nim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Direc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ers take turns placing one pattern block piece at a time until the apple is cover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person who fills in the last space win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lay again and change the rules so that the loser is the one who covers the last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j0344872"/>
          <p:cNvPicPr/>
          <p:nvPr/>
        </p:nvPicPr>
        <p:blipFill>
          <a:blip r:embed="rId1"/>
          <a:stretch/>
        </p:blipFill>
        <p:spPr>
          <a:xfrm>
            <a:off x="5562720" y="304920"/>
            <a:ext cx="1622160" cy="169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Turkey Time Materials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t-outs of turkeys—one weight written on each turk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lcu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 and plain pa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cils, markers, and colored penc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Yummy Mathematic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7924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one holiday recipe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he recipe to serv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 peo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ire cla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MCj02517650000[1]"/>
          <p:cNvPicPr/>
          <p:nvPr/>
        </p:nvPicPr>
        <p:blipFill>
          <a:blip r:embed="rId1"/>
          <a:stretch/>
        </p:blipFill>
        <p:spPr>
          <a:xfrm>
            <a:off x="4191120" y="3511440"/>
            <a:ext cx="3504960" cy="24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Instant Pumpkin Pie Recip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 sandwich bag, crush 3 graham crackers.  Add 2 tsp. of sugar and ¾ tbsp. of soft margarine.  Mix together and spread in container.  Mix 1 tbsp. instant vanilla pudding and ¼ tsp. pumpkin pie spice.  Add 3 tsp. canned pumpkin and 1/3 cup of milk.  Mix well and pour into “pie shell.”  Refrigerate for 1 hour before serving.  Top with whipped topp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Yummy Mathematics Materials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sgiving reci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ipe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ff"/>
                </a:solidFill>
                <a:latin typeface="Kristen ITC"/>
              </a:rPr>
              <a:t>Fabulous Fall Ideas</a:t>
            </a:r>
            <a:endParaRPr b="0" lang="en-US" sz="5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escribe additional ideas you u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n your math class to engage a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motivate your students during th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all seaso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5" descr="j0232601"/>
          <p:cNvPicPr/>
          <p:nvPr/>
        </p:nvPicPr>
        <p:blipFill>
          <a:blip r:embed="rId1"/>
          <a:stretch/>
        </p:blipFill>
        <p:spPr>
          <a:xfrm>
            <a:off x="4572000" y="3809880"/>
            <a:ext cx="3124080" cy="220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Autumn Equality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792504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rt through the fall cut-outs to find number sentences that are equal.  Record each equation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6" descr="j0287401"/>
          <p:cNvPicPr/>
          <p:nvPr/>
        </p:nvPicPr>
        <p:blipFill>
          <a:blip r:embed="rId1"/>
          <a:stretch/>
        </p:blipFill>
        <p:spPr>
          <a:xfrm>
            <a:off x="6095880" y="3657600"/>
            <a:ext cx="252576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Autumn Equality Materi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 cut-outs—one number sentence written on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Puzzling Pumpkin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lect one pumpkin.  Solve the function table and find the missing numbers. Decide what change is happening and figure out the rule of the function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cord your solutions.  Complete at least 4 pumpkins before changing cent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j0344884"/>
          <p:cNvPicPr/>
          <p:nvPr/>
        </p:nvPicPr>
        <p:blipFill>
          <a:blip r:embed="rId1"/>
          <a:stretch/>
        </p:blipFill>
        <p:spPr>
          <a:xfrm>
            <a:off x="5943600" y="5181480"/>
            <a:ext cx="2209680" cy="14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unction Tab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609480" y="1600200"/>
          <a:ext cx="2057400" cy="426708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3276720" y="1600200"/>
          <a:ext cx="1981080" cy="4267080"/>
        </p:xfrm>
        <a:graphic>
          <a:graphicData uri="http://schemas.openxmlformats.org/drawingml/2006/table">
            <a:tbl>
              <a:tblPr/>
              <a:tblGrid>
                <a:gridCol w="990360"/>
                <a:gridCol w="9907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8" name=""/>
          <p:cNvGraphicFramePr/>
          <p:nvPr/>
        </p:nvGraphicFramePr>
        <p:xfrm>
          <a:off x="5715000" y="1600200"/>
          <a:ext cx="1905120" cy="426708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unction Tab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609480" y="1600200"/>
          <a:ext cx="2057400" cy="426708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3276720" y="1600200"/>
          <a:ext cx="1981080" cy="4267080"/>
        </p:xfrm>
        <a:graphic>
          <a:graphicData uri="http://schemas.openxmlformats.org/drawingml/2006/table">
            <a:tbl>
              <a:tblPr/>
              <a:tblGrid>
                <a:gridCol w="990360"/>
                <a:gridCol w="9907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2" name=""/>
          <p:cNvGraphicFramePr/>
          <p:nvPr/>
        </p:nvGraphicFramePr>
        <p:xfrm>
          <a:off x="5715000" y="1600200"/>
          <a:ext cx="1905120" cy="4267080"/>
        </p:xfrm>
        <a:graphic>
          <a:graphicData uri="http://schemas.openxmlformats.org/drawingml/2006/table">
            <a:tbl>
              <a:tblPr/>
              <a:tblGrid>
                <a:gridCol w="952560"/>
                <a:gridCol w="95256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Nim Materials</a:t>
            </a: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tern bl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mpkin Nim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ple Nim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Function Table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609480" y="1600200"/>
          <a:ext cx="2057400" cy="4267080"/>
        </p:xfrm>
        <a:graphic>
          <a:graphicData uri="http://schemas.openxmlformats.org/drawingml/2006/table">
            <a:tbl>
              <a:tblPr/>
              <a:tblGrid>
                <a:gridCol w="1028880"/>
                <a:gridCol w="10285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5" name=""/>
          <p:cNvGraphicFramePr/>
          <p:nvPr/>
        </p:nvGraphicFramePr>
        <p:xfrm>
          <a:off x="3276720" y="1600200"/>
          <a:ext cx="1981080" cy="4267080"/>
        </p:xfrm>
        <a:graphic>
          <a:graphicData uri="http://schemas.openxmlformats.org/drawingml/2006/table">
            <a:tbl>
              <a:tblPr/>
              <a:tblGrid>
                <a:gridCol w="990360"/>
                <a:gridCol w="99072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uzzling Pumpkins Materi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mpkin cut-outs with function tables on e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ing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c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Kristen ITC"/>
              </a:rPr>
              <a:t>Sweet Pictographs</a:t>
            </a:r>
            <a:endParaRPr b="0" lang="en-US" sz="6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5345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ara returned from trick-or-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reating with lots of candy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elp Sara sort her candy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reate a pictograph to displa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your 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j0232048"/>
          <p:cNvPicPr/>
          <p:nvPr/>
        </p:nvPicPr>
        <p:blipFill>
          <a:blip r:embed="rId1"/>
          <a:stretch/>
        </p:blipFill>
        <p:spPr>
          <a:xfrm>
            <a:off x="457200" y="2362320"/>
            <a:ext cx="1971720" cy="2447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285598"/>
          <p:cNvPicPr/>
          <p:nvPr/>
        </p:nvPicPr>
        <p:blipFill>
          <a:blip r:embed="rId2"/>
          <a:stretch/>
        </p:blipFill>
        <p:spPr>
          <a:xfrm>
            <a:off x="7086600" y="762120"/>
            <a:ext cx="181764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Sweet Pictograph Materi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cket of ca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per/recording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Comic Sans MS"/>
              </a:rPr>
              <a:t>Prospering Pattern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0100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Using the assortment of objects, create a variety of different patterns.  Record your patterns on the paper provided.  What is the rule of your pattern?  Can you create an equation to fit your patter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8" descr="j0335906"/>
          <p:cNvPicPr/>
          <p:nvPr/>
        </p:nvPicPr>
        <p:blipFill>
          <a:blip r:embed="rId1"/>
          <a:stretch/>
        </p:blipFill>
        <p:spPr>
          <a:xfrm>
            <a:off x="5410080" y="4114800"/>
            <a:ext cx="23670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Prospering Patterns Materials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 objects such as lea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tence strips/recording she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900" spc="-1" strike="noStrike">
                <a:solidFill>
                  <a:srgbClr val="ffffff"/>
                </a:solidFill>
                <a:latin typeface="Comic Sans MS"/>
              </a:rPr>
              <a:t>Nutty Sorting</a:t>
            </a:r>
            <a:endParaRPr b="0" lang="en-US" sz="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520" y="1523880"/>
            <a:ext cx="80773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rt the objects into groups based on one common attribut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your partner guess the attribute you selec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rt the objects by two attributes and have your partner guess the attributes you select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witch roles and repeat the activit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j0215520"/>
          <p:cNvPicPr/>
          <p:nvPr/>
        </p:nvPicPr>
        <p:blipFill>
          <a:blip r:embed="rId1"/>
          <a:stretch/>
        </p:blipFill>
        <p:spPr>
          <a:xfrm>
            <a:off x="7086600" y="457200"/>
            <a:ext cx="1828800" cy="12304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j0215369"/>
          <p:cNvPicPr/>
          <p:nvPr/>
        </p:nvPicPr>
        <p:blipFill>
          <a:blip r:embed="rId2"/>
          <a:stretch/>
        </p:blipFill>
        <p:spPr>
          <a:xfrm>
            <a:off x="228600" y="5845320"/>
            <a:ext cx="1295280" cy="10126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0" descr="j0215364"/>
          <p:cNvPicPr/>
          <p:nvPr/>
        </p:nvPicPr>
        <p:blipFill>
          <a:blip r:embed="rId3"/>
          <a:stretch/>
        </p:blipFill>
        <p:spPr>
          <a:xfrm>
            <a:off x="7391520" y="5638680"/>
            <a:ext cx="1447560" cy="104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7T02:04:20Z</dcterms:created>
  <dc:creator>Randolph County Schools</dc:creator>
  <dc:description/>
  <dc:language>en-US</dc:language>
  <cp:lastModifiedBy>afloyd</cp:lastModifiedBy>
  <dcterms:modified xsi:type="dcterms:W3CDTF">2012-10-01T18:25:08Z</dcterms:modified>
  <cp:revision>20</cp:revision>
  <dc:subject/>
  <dc:title>Slide 1</dc:title>
</cp:coreProperties>
</file>